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3A5-0876-4E7B-81F4-6BB8D4AF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C9B-5B7B-48B0-BFF1-EDC1F175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14A-4812-42E3-ACD2-CB328431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741-8F3E-416D-BFF8-609B7C82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C65-5639-46A3-84B3-AAA03CDE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300-10C1-4873-A687-EAE538E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AC9-2DDE-444B-AE90-9ABA226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915-5052-4852-A4FC-9157B670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C9C-1105-4475-B242-7544149E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2A2-6F1D-4AA0-8ACA-955635D5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B46-1235-4FDA-B504-9BE42AE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D54-30F7-4B71-8A93-B2C836C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909A-6321-4711-A528-86006A73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City Sta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7315200" y="342900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240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cilies goes all the way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5:49:18Z</dcterms:created>
  <dc:creator>jobert</dc:creator>
  <dc:description/>
  <dc:language>en-US</dc:language>
  <cp:lastModifiedBy>jobert</cp:lastModifiedBy>
  <dcterms:modified xsi:type="dcterms:W3CDTF">2012-05-03T15:53:39Z</dcterms:modified>
  <cp:revision>3</cp:revision>
  <dc:subject/>
  <dc:title>City State Map</dc:title>
</cp:coreProperties>
</file>